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880-73E2-4E7B-933A-ABD4D6B9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2BF-7508-4475-B012-BE6C5102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B69-F183-42E9-A239-1A6FD58C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75D-8B59-4EAF-A791-6F308655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C28-105F-4FDC-8C27-2B9E70B2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BCF-E737-4C7A-A95E-2EB6118F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D73-32B6-440A-BA6C-B42DC012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FB9-ACE0-4026-A28B-AE478301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079-489A-4559-ACA2-00E9D176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296-7D86-4992-B7FC-10CB888B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7E4-46BB-4D7E-B30B-E661C5CA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A0C-6B02-4DE1-9C1C-855E74D3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B198-6F53-4896-AEC8-E51E61CB2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800" y="1143000"/>
            <a:ext cx="91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Impact"/>
              </a:rPr>
              <a:t>THE PROBLEM WITH LANDMINES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86"/>
          <p:cNvPicPr/>
          <p:nvPr/>
        </p:nvPicPr>
        <p:blipFill>
          <a:blip r:embed="rId1"/>
          <a:stretch/>
        </p:blipFill>
        <p:spPr>
          <a:xfrm>
            <a:off x="1371600" y="2133720"/>
            <a:ext cx="6343560" cy="4152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6629400" y="6095880"/>
            <a:ext cx="11145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©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Tim Grant 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751120" y="60948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Impact"/>
              </a:rPr>
              <a:t>SOLU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269280" y="1576440"/>
            <a:ext cx="77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Clear landmines and teach people about the da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IMGP0265"/>
          <p:cNvPicPr/>
          <p:nvPr/>
        </p:nvPicPr>
        <p:blipFill>
          <a:blip r:embed="rId1"/>
          <a:stretch/>
        </p:blipFill>
        <p:spPr>
          <a:xfrm>
            <a:off x="152280" y="40384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333360" y="631836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Stockpile De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Wednesday1"/>
          <p:cNvPicPr/>
          <p:nvPr/>
        </p:nvPicPr>
        <p:blipFill>
          <a:blip r:embed="rId2"/>
          <a:stretch/>
        </p:blipFill>
        <p:spPr>
          <a:xfrm>
            <a:off x="3352680" y="2590920"/>
            <a:ext cx="2387880" cy="3174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3639960" y="601992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Mine Clea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341960" y="5562720"/>
            <a:ext cx="139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an Sutton, Reuter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0" descr="af-e-00262_z"/>
          <p:cNvPicPr/>
          <p:nvPr/>
        </p:nvPicPr>
        <p:blipFill>
          <a:blip r:embed="rId3"/>
          <a:stretch/>
        </p:blipFill>
        <p:spPr>
          <a:xfrm>
            <a:off x="5943600" y="2514600"/>
            <a:ext cx="3048120" cy="2362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6981840" y="4800600"/>
            <a:ext cx="22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mpact"/>
              </a:rPr>
              <a:t>©ICRC/V. Ivleva-Yorke/ao-e-00249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6337440" y="51814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Mine Risk 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1753200" y="6095880"/>
            <a:ext cx="145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aëtan 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eaupui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751120" y="60948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Impact"/>
              </a:rPr>
              <a:t>SOLU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-405360" y="1752480"/>
            <a:ext cx="85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Provide for the needs and rights of survivors EVERY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2743200" y="3200400"/>
            <a:ext cx="2971800" cy="2057400"/>
            <a:chOff x="2743200" y="3200400"/>
            <a:chExt cx="2971800" cy="2057400"/>
          </a:xfrm>
        </p:grpSpPr>
        <p:pic>
          <p:nvPicPr>
            <p:cNvPr id="81" name="Picture 5" descr="P1010065"/>
            <p:cNvPicPr/>
            <p:nvPr/>
          </p:nvPicPr>
          <p:blipFill>
            <a:blip r:embed="rId1"/>
            <a:stretch/>
          </p:blipFill>
          <p:spPr>
            <a:xfrm>
              <a:off x="2743200" y="3200400"/>
              <a:ext cx="29718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6"/>
            <p:cNvSpPr/>
            <p:nvPr/>
          </p:nvSpPr>
          <p:spPr>
            <a:xfrm>
              <a:off x="4205160" y="4942080"/>
              <a:ext cx="147456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7"/>
          <p:cNvSpPr/>
          <p:nvPr/>
        </p:nvSpPr>
        <p:spPr>
          <a:xfrm>
            <a:off x="3355560" y="5181480"/>
            <a:ext cx="251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titute For Rehabilitation, Slovenia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TMP6"/>
          <p:cNvPicPr/>
          <p:nvPr/>
        </p:nvPicPr>
        <p:blipFill>
          <a:blip r:embed="rId2"/>
          <a:stretch/>
        </p:blipFill>
        <p:spPr>
          <a:xfrm>
            <a:off x="380880" y="2286000"/>
            <a:ext cx="2030400" cy="2895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105120" y="541008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Emergency as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616120" y="5715000"/>
            <a:ext cx="32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New limbs and rehabil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sotwriting"/>
          <p:cNvPicPr/>
          <p:nvPr/>
        </p:nvPicPr>
        <p:blipFill>
          <a:blip r:embed="rId3"/>
          <a:stretch/>
        </p:blipFill>
        <p:spPr>
          <a:xfrm>
            <a:off x="6095880" y="388620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6521040" y="6172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Social re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7774920" y="5945040"/>
            <a:ext cx="125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© Amaya Valcárc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689400" y="5105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©ICBL-Georgian Committ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903760" y="60948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Impact"/>
              </a:rPr>
              <a:t>SOLU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1720" y="4038480"/>
            <a:ext cx="780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andmines must be found and destr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ll landmines survivors must be fully car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ll countries must never use or produce landm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352680" y="2819520"/>
            <a:ext cx="25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463120" y="184644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Impact"/>
              </a:rPr>
              <a:t>The Ottawa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295280" y="2514600"/>
            <a:ext cx="63788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Impact"/>
              </a:rPr>
              <a:t>156 countries have joined the Ottawa Conven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Impact"/>
              </a:rPr>
              <a:t>(80% of the worl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SC_0200"/>
          <p:cNvPicPr/>
          <p:nvPr/>
        </p:nvPicPr>
        <p:blipFill>
          <a:blip r:embed="rId1"/>
          <a:stretch/>
        </p:blipFill>
        <p:spPr>
          <a:xfrm>
            <a:off x="5029200" y="3124080"/>
            <a:ext cx="3000240" cy="2389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SC_0073"/>
          <p:cNvPicPr/>
          <p:nvPr/>
        </p:nvPicPr>
        <p:blipFill>
          <a:blip r:embed="rId2"/>
          <a:stretch/>
        </p:blipFill>
        <p:spPr>
          <a:xfrm>
            <a:off x="2971800" y="3200400"/>
            <a:ext cx="2525760" cy="167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elhi 066"/>
          <p:cNvPicPr/>
          <p:nvPr/>
        </p:nvPicPr>
        <p:blipFill>
          <a:blip r:embed="rId3"/>
          <a:stretch/>
        </p:blipFill>
        <p:spPr>
          <a:xfrm>
            <a:off x="4800600" y="11430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UT_0161"/>
          <p:cNvPicPr/>
          <p:nvPr/>
        </p:nvPicPr>
        <p:blipFill>
          <a:blip r:embed="rId4"/>
          <a:stretch/>
        </p:blipFill>
        <p:spPr>
          <a:xfrm>
            <a:off x="2362320" y="1295280"/>
            <a:ext cx="2692440" cy="2019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1 (117)"/>
          <p:cNvPicPr/>
          <p:nvPr/>
        </p:nvPicPr>
        <p:blipFill>
          <a:blip r:embed="rId5"/>
          <a:stretch/>
        </p:blipFill>
        <p:spPr>
          <a:xfrm>
            <a:off x="5867280" y="2286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a (71)"/>
          <p:cNvPicPr/>
          <p:nvPr/>
        </p:nvPicPr>
        <p:blipFill>
          <a:blip r:embed="rId6"/>
          <a:stretch/>
        </p:blipFill>
        <p:spPr>
          <a:xfrm>
            <a:off x="228600" y="152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rt Show display &amp; Paul"/>
          <p:cNvPicPr/>
          <p:nvPr/>
        </p:nvPicPr>
        <p:blipFill>
          <a:blip r:embed="rId7"/>
          <a:stretch/>
        </p:blipFill>
        <p:spPr>
          <a:xfrm>
            <a:off x="838080" y="342900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Delhi 039"/>
          <p:cNvPicPr/>
          <p:nvPr/>
        </p:nvPicPr>
        <p:blipFill>
          <a:blip r:embed="rId8"/>
          <a:stretch/>
        </p:blipFill>
        <p:spPr>
          <a:xfrm>
            <a:off x="6705720" y="2590920"/>
            <a:ext cx="1657080" cy="2209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Delhi 062"/>
          <p:cNvPicPr/>
          <p:nvPr/>
        </p:nvPicPr>
        <p:blipFill>
          <a:blip r:embed="rId9"/>
          <a:stretch/>
        </p:blipFill>
        <p:spPr>
          <a:xfrm>
            <a:off x="228600" y="23623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Delhi 115"/>
          <p:cNvPicPr/>
          <p:nvPr/>
        </p:nvPicPr>
        <p:blipFill>
          <a:blip r:embed="rId10"/>
          <a:stretch/>
        </p:blipFill>
        <p:spPr>
          <a:xfrm>
            <a:off x="228600" y="44956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Tajikistan camp 1"/>
          <p:cNvPicPr/>
          <p:nvPr/>
        </p:nvPicPr>
        <p:blipFill>
          <a:blip r:embed="rId11"/>
          <a:stretch/>
        </p:blipFill>
        <p:spPr>
          <a:xfrm>
            <a:off x="6324480" y="48769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005"/>
          <p:cNvPicPr/>
          <p:nvPr/>
        </p:nvPicPr>
        <p:blipFill>
          <a:blip r:embed="rId12"/>
          <a:stretch/>
        </p:blipFill>
        <p:spPr>
          <a:xfrm>
            <a:off x="3276720" y="380880"/>
            <a:ext cx="2255760" cy="1408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DSC_0114"/>
          <p:cNvPicPr/>
          <p:nvPr/>
        </p:nvPicPr>
        <p:blipFill>
          <a:blip r:embed="rId13"/>
          <a:stretch/>
        </p:blipFill>
        <p:spPr>
          <a:xfrm>
            <a:off x="3276720" y="4724280"/>
            <a:ext cx="2895480" cy="192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DSCF0167"/>
          <p:cNvPicPr/>
          <p:nvPr/>
        </p:nvPicPr>
        <p:blipFill>
          <a:blip r:embed="rId14"/>
          <a:stretch/>
        </p:blipFill>
        <p:spPr>
          <a:xfrm>
            <a:off x="2590920" y="30481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IMGP4784"/>
          <p:cNvPicPr/>
          <p:nvPr/>
        </p:nvPicPr>
        <p:blipFill>
          <a:blip r:embed="rId15"/>
          <a:stretch/>
        </p:blipFill>
        <p:spPr>
          <a:xfrm>
            <a:off x="4800600" y="2438280"/>
            <a:ext cx="1600200" cy="2133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7"/>
          <p:cNvSpPr/>
          <p:nvPr/>
        </p:nvSpPr>
        <p:spPr>
          <a:xfrm>
            <a:off x="683640" y="2367000"/>
            <a:ext cx="7924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ecome part of the global net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f activist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ampaigners to make a mine-free wor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reality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nd not just a dream!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Picture 039"/>
          <p:cNvPicPr/>
          <p:nvPr/>
        </p:nvPicPr>
        <p:blipFill>
          <a:blip r:embed="rId1"/>
          <a:stretch/>
        </p:blipFill>
        <p:spPr>
          <a:xfrm>
            <a:off x="2514600" y="609480"/>
            <a:ext cx="3481560" cy="52293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13" name="Text Box 3"/>
          <p:cNvSpPr/>
          <p:nvPr/>
        </p:nvSpPr>
        <p:spPr>
          <a:xfrm>
            <a:off x="1989000" y="518148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Do your part for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mine-free worl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 rot="5400000">
            <a:off x="5849280" y="70488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©IC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891720" y="3016080"/>
            <a:ext cx="76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Impact"/>
              </a:rPr>
              <a:t>IS THE HUMAN IMPACT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4680" y="4419720"/>
            <a:ext cx="978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15000 – 20000 NEW LANDMINE VICTIMS PER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 MOST OF THE WORLD’S POORES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7028640" y="6613560"/>
            <a:ext cx="21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urtesy of the ICBL Image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38"/>
          <p:cNvPicPr/>
          <p:nvPr/>
        </p:nvPicPr>
        <p:blipFill>
          <a:blip r:embed="rId1"/>
          <a:stretch/>
        </p:blipFill>
        <p:spPr>
          <a:xfrm>
            <a:off x="1447920" y="1066680"/>
            <a:ext cx="6350040" cy="4178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868040" y="571500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Impact"/>
              </a:rPr>
              <a:t>Almost 500 000 known survivors in 2009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936840" y="5181480"/>
            <a:ext cx="83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©Tim Gr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-42120" y="609480"/>
            <a:ext cx="94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Impact"/>
              </a:rPr>
              <a:t>Thousands of km</a:t>
            </a:r>
            <a:r>
              <a:rPr b="0" lang="en-US" sz="2800" spc="-1" strike="noStrike" baseline="30000">
                <a:solidFill>
                  <a:srgbClr val="ffcc00"/>
                </a:solidFill>
                <a:latin typeface="Impact"/>
              </a:rPr>
              <a:t>2 </a:t>
            </a:r>
            <a:r>
              <a:rPr b="0" lang="en-US" sz="2800" spc="-1" strike="noStrike">
                <a:solidFill>
                  <a:srgbClr val="ffcc00"/>
                </a:solidFill>
                <a:latin typeface="Impact"/>
              </a:rPr>
              <a:t>are invested with these hidden ki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6A_BOSNIA10YRS04"/>
          <p:cNvPicPr/>
          <p:nvPr/>
        </p:nvPicPr>
        <p:blipFill>
          <a:blip r:embed="rId1"/>
          <a:stretch/>
        </p:blipFill>
        <p:spPr>
          <a:xfrm>
            <a:off x="2362320" y="1295280"/>
            <a:ext cx="4300560" cy="5257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5334120" y="6477120"/>
            <a:ext cx="140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© John Rodsted 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-41400" y="930240"/>
            <a:ext cx="930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There are over 350 types of landm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found in approximately 80 countries and terr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since World War 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-68400" y="223920"/>
            <a:ext cx="9280800" cy="64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415160" y="3268800"/>
            <a:ext cx="191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Afghan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Bos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Cambo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Ir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724000" y="3352680"/>
            <a:ext cx="205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Koso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Leba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Mozamb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Su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881440" y="563868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plus man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949200" y="286056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M MAP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-675720" y="304920"/>
            <a:ext cx="104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Impact"/>
              </a:rPr>
              <a:t>Cluster bombs have been used in over 20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28600" y="1143000"/>
            <a:ext cx="8724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raq </a:t>
            </a: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 just three week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Impact"/>
              </a:rPr>
              <a:t>13, 000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 cluster bombs  were used contain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Impact"/>
              </a:rPr>
              <a:t>1.8-2 million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 bomblets by the U.K. and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-486000" y="5943600"/>
            <a:ext cx="9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The most contaminated areas are:  Afghanistan, Cambodia, Iraq, Laos, Kosovo and Viet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kosal_stair"/>
          <p:cNvPicPr/>
          <p:nvPr/>
        </p:nvPicPr>
        <p:blipFill>
          <a:blip r:embed="rId1"/>
          <a:stretch/>
        </p:blipFill>
        <p:spPr>
          <a:xfrm>
            <a:off x="2895480" y="1143000"/>
            <a:ext cx="3411720" cy="4495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5" name="Text Box 4"/>
          <p:cNvSpPr/>
          <p:nvPr/>
        </p:nvSpPr>
        <p:spPr>
          <a:xfrm>
            <a:off x="4115520" y="5410080"/>
            <a:ext cx="21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the ICBL Image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-749520" y="1273320"/>
            <a:ext cx="108608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“</a:t>
            </a: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Toy-size bombs designed to kill tanks and soldiers appear as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lawn darts, green baseballs,orange-striped soda cans- and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proved deadly to children…’When you see a 5-year-old boy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to the hospital without any limbs,’ asked Kuwait City surge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Dr. Mohammed Khaled,’ how can you forget that sight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Impac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Impact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ffcc00"/>
                </a:solidFill>
                <a:latin typeface="Impact"/>
              </a:rPr>
              <a:t>Ft. Worth Star Telegram” January 12, 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Impact"/>
              </a:rPr>
              <a:t>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ffcc00"/>
                </a:solidFill>
                <a:latin typeface="Impact"/>
              </a:rPr>
              <a:t>Mennonite Central 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7:44:42Z</dcterms:created>
  <dc:creator>user</dc:creator>
  <dc:description/>
  <dc:language>en-US</dc:language>
  <cp:lastModifiedBy>SEKULA, Debbie(SEK)</cp:lastModifiedBy>
  <dcterms:modified xsi:type="dcterms:W3CDTF">2013-07-29T03:02:52Z</dcterms:modified>
  <cp:revision>20</cp:revision>
  <dc:subject/>
  <dc:title>PowerPoint Presentation</dc:title>
</cp:coreProperties>
</file>